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31E-A6B0-48D4-B90B-5DE8EDDC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6C1-5A70-42C8-8F83-19C81755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6FA-7303-4474-9B40-DB7730F9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837-7C4B-4D2A-8D54-FB389324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59C4-91F3-4BC7-A257-9937851D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FEF4-15E5-48E8-A26C-6BEF1A2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7A56-24BC-4AE9-A893-1CAF683A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FDFF-4B00-4FDD-BD71-84E9754A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8D19-03FD-4464-8A0A-25F19755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2703-CA14-4441-AAB9-EB91DFF2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587F-6F89-41DC-87D6-9D570831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B8C-BE91-4F2E-865F-CA52886B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708A-EB26-4393-90C3-9EE28F45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0903-FAEA-452B-AE26-0705A7BB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E849-6841-4B1B-84E4-1F64EED6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CD6F-C676-47A0-B85E-B3D14951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DE96-B86A-4990-A98A-32B0E4FB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9A7-AE64-4B5A-96D4-F038290E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235-A446-4DAF-A3DF-440B40ED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086-BD9E-413D-B622-1E1C0747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4FB-9381-4649-8DB0-32EA8CA3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713-EB0B-49D4-9A52-5069427D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12F-6751-41D3-9BBF-67EBD48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4EC-8660-4464-9E53-EB8DDBB0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0763F-9C51-4812-8466-7E77962E2091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11320" y="7873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437840" y="27432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549FF-F9DC-4770-AC05-8FB4875D341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Τίτλος 1" descr=""/>
          <p:cNvPicPr/>
          <p:nvPr/>
        </p:nvPicPr>
        <p:blipFill>
          <a:blip r:embed="rId1"/>
          <a:stretch/>
        </p:blipFill>
        <p:spPr>
          <a:xfrm>
            <a:off x="2212920" y="4462560"/>
            <a:ext cx="942516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Υπότιτλος 2" descr=""/>
          <p:cNvPicPr/>
          <p:nvPr/>
        </p:nvPicPr>
        <p:blipFill>
          <a:blip r:embed="rId2"/>
          <a:stretch/>
        </p:blipFill>
        <p:spPr>
          <a:xfrm>
            <a:off x="2206800" y="3200400"/>
            <a:ext cx="91440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371520" y="158760"/>
            <a:ext cx="10985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111488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8200" y="128520"/>
            <a:ext cx="1108872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76040" y="66600"/>
            <a:ext cx="111808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2080" y="115920"/>
            <a:ext cx="110948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85680"/>
            <a:ext cx="112172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Τίτλος 1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7" name="Θέση περιεχομένου 2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9240" y="133200"/>
            <a:ext cx="111376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92160"/>
            <a:ext cx="11217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82520" y="158760"/>
            <a:ext cx="11174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74680" y="158760"/>
            <a:ext cx="110822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9" name="5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9:29:30Z</dcterms:created>
  <dc:creator>Βιβη</dc:creator>
  <dc:description/>
  <dc:language>en-US</dc:language>
  <cp:lastModifiedBy>Kostantinos Lolitsas</cp:lastModifiedBy>
  <dcterms:modified xsi:type="dcterms:W3CDTF">2020-02-16T11:41:37Z</dcterms:modified>
  <cp:revision>37</cp:revision>
  <dc:subject/>
  <dc:title>Παρουσίαση του PowerPoint</dc:title>
</cp:coreProperties>
</file>